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0106-3148-41CB-9A74-C74EDBA0F7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rto zwrócić uwagę uczniów na fakt, że zgodnie z definicją równoważne są dowolne dwa równania sprzeczne oraz dowolne dwa równania równoważ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63DB-9433-4AC0-8EC3-4BC1F2EC3B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13E-A7DF-420F-AED8-DD5272DE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A75-1C52-457D-87CB-6D1BFA8A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15D-B167-4A8F-A6E2-63389805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2AC-84BE-452B-AF3E-F406668D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478F-0944-4A2A-AE98-F4EA1795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0BC0-A132-4467-8F45-CFF9CA32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1115-E39A-4430-94EE-F3E24922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3B75-AF1D-4B7F-89EB-FDC7E373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31FE-6B8C-4C94-A7B6-FDEE72AC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3AD3-23FC-437C-B32F-6DED9E21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60F3-B95E-40B0-87AD-6F27460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079-0F8F-434F-B929-68DB4377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034B-EEAB-4FED-9301-34191C0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65C6-6E55-4ECB-AD42-94367203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0D7E-D527-4B96-9C7F-D937677B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0877-EFFD-4333-AD79-DBB46D1B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F97A-8525-482B-8590-0A5A5024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06A3-C735-4EE8-A753-68C0523F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B536-A6E0-4B7D-9360-1CF53366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3314-19ED-4F79-A0EF-B756E01F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E005-CE53-418F-8D1A-0B2B04DA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5A1A6-4712-4823-A58F-A520E422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E2D-43E2-4548-AD8F-BC811A3F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EA3E-C145-4827-AB41-B11E366F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3E51-EC2B-41D8-9CD7-1E8ACA1B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78CB-01FE-4A19-A6A4-81DF5465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BCAC-C3BA-49DC-9D2A-59587CB7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1733-75EF-49DE-A820-7478FA55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A11E-59BC-419E-8F9C-2C1B681B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04D0-5BEA-4CB6-844C-7BE283B7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3006A-5D6A-4C93-8A7F-97C3EAC5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A7AE-7A0E-4195-B872-8F2B2FF2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CAAC9-E759-40B6-A24F-A6F1EB1C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513-79B5-4C46-878C-711FABEE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1082-FC82-4345-ADB1-EDD301F8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913B9-87B5-4ACE-A3E6-4FE22A20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31D4-EC69-4483-9B28-C2AAD520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C633E-D80B-428C-ACA6-0BC404F7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0E8C1-273E-4058-A321-C37CC47B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0497C-6197-430E-BB6B-FCB5FC5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44BD-30ED-45E5-B15A-90DD329D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DF7F9-C8F2-400C-8C05-31B336B8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945B-FFDD-4708-9FB3-AD3551A5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69C-105C-4826-99E7-CE574064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A06-2A06-486A-BAE0-B64B4AB4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73C-ECE9-46EE-9878-178A4A01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500-9AD5-4E41-8968-87341C6A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A37-C6C1-40FF-AC37-6D56BFD2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7251-DD3C-49D2-B089-1B37647BF77C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1728-A2D5-4BF2-97A0-EE10C88CA57D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243B-FA59-4844-93C1-24D8DE4A0FBD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3CA5-6AAF-44A4-A7BE-317C26027918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ytuł 1" descr=""/>
          <p:cNvPicPr/>
          <p:nvPr/>
        </p:nvPicPr>
        <p:blipFill>
          <a:blip r:embed="rId1"/>
          <a:stretch/>
        </p:blipFill>
        <p:spPr>
          <a:xfrm>
            <a:off x="669960" y="3121200"/>
            <a:ext cx="7321680" cy="237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43000" y="73188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, którego nie spełnia żadna liczba, nazywamy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m sprzecznym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+ 3 = x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– 4 = x +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042920" y="692280"/>
            <a:ext cx="6400800" cy="536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Zbiór rozwiązań równania, 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to zbiór wszystkich liczb spełniających dane równanie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Zadanie: Dwa spośród poniższych równań mają ten sam zbiór rozwiązań. Wskaż te równania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 + 3 = 6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 + 3 = 0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2x = -6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25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 = 9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43000" y="731520"/>
            <a:ext cx="64008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Jeśli dwa równania mają ten sam zbiór rozwiązań, to nazywamy je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ami równoważnymi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Napisz po dwa równania równoważne podanym równaniom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y – 5 = 8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a = 6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+ 5 = 5 + x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43000" y="731880"/>
            <a:ext cx="640080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. Napisz jakieś skomplikowane równanie, którego rozwiązaniem jest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wój numer domu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umer twojego buta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ymyślona przez ciebie liczb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Bibliografi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Matematyka z plusem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Zeszyt ćwiczeń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Opracowała: Anna Jąkalsk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475920"/>
            <a:ext cx="6400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czby, które spełniają równanie nazywamy rozwiązaniem równania lub pierwiastkami równani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4x+2=10 ma jedno rozwiązanie. Pierwiastkiem tego równania jest liczba 2, gdyż 4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+2=10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jedno rozwiązani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ymbol zastępczy zawartości 2"/>
          <p:cNvSpPr/>
          <p:nvPr/>
        </p:nvSpPr>
        <p:spPr>
          <a:xfrm>
            <a:off x="1403280" y="981000"/>
            <a:ext cx="64008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 ma dwa pierwiastki: 3 i -3, gdyż 3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= 9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(-3)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dwa rozwiązani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ymbol zastępczy zawartości 2"/>
          <p:cNvSpPr/>
          <p:nvPr/>
        </p:nvSpPr>
        <p:spPr>
          <a:xfrm>
            <a:off x="1332000" y="692280"/>
            <a:ext cx="6400800" cy="55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x(x+1)(x-2)=0 ma trzy rozwiązania: 0, -1 i 2, gdyż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(x+1)(x-2)=0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(-1+1)(x-2)=0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(x+1)(2-2)=0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trzy rozwiązani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43000" y="731880"/>
            <a:ext cx="6400800" cy="47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odaj równanie które ma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cztery rozwiązani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p. (z+1)(z+2)(z+3)(z+5)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ięć pierwiastków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p. (z+1)(z+2)(z+3)(z+5)(z+6)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2640" y="404640"/>
            <a:ext cx="688500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3x + 2 = x + 2x + 2 ma nieskończenie wiele rozwiązań (spełnia je każda liczba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spełnia każda liczb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143000" y="731520"/>
            <a:ext cx="6400800" cy="52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, które spełniają wszystkie liczby, nazywamy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m tożsamościowym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x = x + x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a = 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99640" y="731520"/>
            <a:ext cx="75596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6040" indent="-4935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x ma nieskończenie wiele rozwiązań (spełniają je liczby nieujemne), np.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1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2,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0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ie jest to równanie tożsamościowe,          gdyż liczby ujemne nie są jego rozwiązaniem, bo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-1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1,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-4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4 itd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nieskończenie wiele rozwiąz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3000" y="731880"/>
            <a:ext cx="6400800" cy="54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m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-9 nie ma rozwiązań (żadna liczba go nie spełnia), gdyż kwadrat każdej liczby rzeczywistej jest liczbą nieujemn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nie ma rozwiąz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30:30Z</dcterms:created>
  <dc:creator>Ania</dc:creator>
  <dc:description/>
  <dc:language>en-US</dc:language>
  <cp:lastModifiedBy>Ania</cp:lastModifiedBy>
  <dcterms:modified xsi:type="dcterms:W3CDTF">2013-06-11T17:56:16Z</dcterms:modified>
  <cp:revision>102</cp:revision>
  <dc:subject/>
  <dc:title>RÓWNANIA</dc:title>
</cp:coreProperties>
</file>